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9CC-88AC-4626-BD2B-93C71E19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7CFD-591D-4421-8A0E-D65FE60B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279-FF12-462A-8B80-9947B2BE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5B83-B9EC-434D-9733-E163D70A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8A2F-9280-44C9-8B27-C3F99F23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4567-4715-400A-AD8A-EAAD26BF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E849-C1F0-42B6-A4DC-018528C0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C507-19DB-49A0-A291-196303F6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C80B-9A4B-473E-97C2-95944F1D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4D09-279B-472F-9ABF-7EEAF6EC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4E9A-B998-48D4-AC79-BE4BBC05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576B-E760-4DD9-9176-FD967A9F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649C-23CB-44AB-A7BC-AFF3865C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9599-35F9-4466-B43C-E728EB37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AC6A-5E12-4F4D-A7C5-204F4FB1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B11E-6390-4956-8335-16B34832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A5D7-DCC1-4711-AB46-969AFB0F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169A-CDEF-4EA4-B941-D087CA37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5BF-A279-4146-9825-B97A8F11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AC22-8EA3-4767-B37C-6CAAFDF6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156-B005-4BFB-804B-59D74324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DCA-C719-4CC6-85BE-906B4AFD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74C3-F825-48E3-A5A3-135C3C09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C661-C9E9-4A97-AA7A-8532483B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51AF-7BED-432A-AFD6-8CF6AA384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870B-42C7-4450-AC13-9BAA2A573C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52280"/>
            <a:ext cx="914400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rt 38 do Código de Mine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. 38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O requerimento de autorização de lavra será dirigido ao Ministro de Minas e Energia, pelo titular da autorização de pesquisa, ou seu sucessor, e deverá ser instruído com os seguintes elementos de informação e prova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 - certidão de registro no Departamento Nacional de Registro do Comércio, da entidade constituída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I - designação das substâncias minerais a lavrar, com indicação do Alvará de Pesquisa outorgado, e de aprovação do respectivo Relatóri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II - denominação e descrição da localização do campo pretendido para a lavra, relacionando-o, com precisão e clareza, aos vales dos rios ou córregos, constantes de mapas ou plantas de notória autenticidade e precisão, e estradas de ferro e rodovias, ou, ainda, a marcos naturais ou acidentes topográficos de inconfundível determinação; suas confrontações com autorização de pesquisa e concessões de lavra vizinhas, se as houver, e indicação do Distrito, Município, Comarca e Estado, e, ainda, nome e residência dos proprietários do solo ou posseiros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V - definição gráfica da área pretendida, delimitada por figura geométrica formada, obrigatoriamente, por segmentos de retas com orientação Norte-Sul e Leste-Oeste verdadeiros, com 2 (dois) de seus vértices, ou excepcionalmente 1 (um), amarrados a ponto fixo e inconfundível do terreno, sendo os vetores de amarração definidos por seus comprimentos e rumos verdadeiros, e configuradas, ainda, as propriedades territoriais por ela interessadas, com os nomes dos respectivos superficiários, além de planta de situação; 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1447920"/>
            <a:ext cx="8702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- servidões de que deverá gozar a mina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 - plano de aproveitamento econômico da jazida, com descrição das instalações de beneficiament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I - prova de disponibilidade de fundos ou da existência de compromissos de financiamento, necessários para execução do plano de aproveitamento econômico e operação da min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ágrafo Únic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Quando tiver por objeto área situada na faixa de fronteira, a concessão de lavra fica sujeita aos critérios e condições estabelecidas em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lei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21:59:55Z</dcterms:created>
  <dc:creator>Alexandre Braule</dc:creator>
  <dc:description/>
  <dc:language>en-US</dc:language>
  <cp:lastModifiedBy>Alexandre Braule</cp:lastModifiedBy>
  <dcterms:modified xsi:type="dcterms:W3CDTF">2004-08-11T12:37:51Z</dcterms:modified>
  <cp:revision>63</cp:revision>
  <dc:subject/>
  <dc:title>Apresentação do PowerPoint</dc:title>
</cp:coreProperties>
</file>